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036-3652-4BB3-9863-B8858512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9A5-5747-4219-9CDD-4A82688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581-CBD8-42E9-B262-4A47AD7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3FC-BE5C-47A6-ABF0-F400FD2D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1BE4-33D6-4BE2-9CAE-62F48620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C787-E60B-4775-BCF9-90C23A5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6C30-D431-4DED-9EBE-C3A50CD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F981-C71C-402E-8DCA-C252022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A2A-EE7B-48AE-A6B0-EF3A12D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794-9E6F-42D5-A63B-2285B681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B840-D316-4AE1-8E0A-EA69DCF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380-DC39-4994-977F-F1AD159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713B-77DE-48F6-B874-763E274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DB75-2B8B-48F7-BD3A-3E2DF2E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BA04-47BA-4EC3-BC52-861A7A03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CCF2-8EEA-4288-8996-9F9C732F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6BBD-3757-4BFF-8288-8BCF7913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B0-40E3-4156-ACC1-46EE1F3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342-8456-4E2B-A7BB-97D9BFD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21F-8970-4BE5-9C66-7A34AFE5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97D-1C34-49C3-8C5E-D932B7D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E39-3551-4CE9-9C76-7322A08E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8C4-6609-49C8-8169-C026E6E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426-685F-4EDB-8684-D77AD1A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E13-C88A-4D4A-8ADB-B4C640F1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C12-5A96-4C21-8AC0-4037231A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c-online.com/objects/index_tj.asp?objID=AP11203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sc-online.com/objects/index_tj.asp?objID=AP11103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ssive vs.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ytosis - large molecules exit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Active Transport Ani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520"/>
            <a:ext cx="8163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he En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substances from higher to low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- movement of any type of particle from high concentration to low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mosis - movement of water across a selectively permeable membrane from higher to lower concen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d Diffusion - movement of molecules  across a cell membrane with the help of transport proteins (faster than regular diffu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Facilitated Diffusion Ani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substances from lower concentration to high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 (general) - substances move from lower to higher concentration {against the concentration gradient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ytosis - large molecules are taken into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hagocytosis = solids taken in “e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inocytosis = liquids taken in “drin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5:23:24Z</dcterms:created>
  <dc:creator>Clayton Johns</dc:creator>
  <dc:description/>
  <dc:language>en-US</dc:language>
  <cp:lastModifiedBy>Clayton Johns</cp:lastModifiedBy>
  <dcterms:modified xsi:type="dcterms:W3CDTF">2009-12-22T15:13:34Z</dcterms:modified>
  <cp:revision>6</cp:revision>
  <dc:subject/>
  <dc:title>Passive vs. Active Transport</dc:title>
</cp:coreProperties>
</file>